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19E-7351-44A0-9AFF-FEEC751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667-ABB4-4EE4-9D9C-A303C85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D95-61EE-440B-938B-FFEBAD9D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F97-A2D6-4434-A45C-7E5AED07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5D0-F90B-4809-97CA-E169F1E9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8D7-5D20-4B3C-A0B2-5E8C7ECC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985-3BFD-4288-9F45-802ACFBE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ABC-2B56-490C-93E0-9A57AF65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073-580D-4069-849B-66B01268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7AA-11CF-489A-9FB9-31FE3DD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61A-CC84-44F6-A0B6-BA7A10E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D65-58D7-4076-BC25-B60B00F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F0A3-2BDA-4862-BD17-FB6F0534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Recurring Patients with Preferred N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601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o store which patients have had which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ng system for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patients will be placed in the available room which has a positively rated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ectiv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50668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Cams btw Patient and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camera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isolation, ICU and procedures using local anesthesia where family is not allowed in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osks in waiting room and option to have on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3048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2:28Z</dcterms:created>
  <dc:creator>Marianna Jewell</dc:creator>
  <dc:description/>
  <dc:language>en-US</dc:language>
  <cp:lastModifiedBy>Joseph Riley</cp:lastModifiedBy>
  <dcterms:modified xsi:type="dcterms:W3CDTF">2007-09-04T01:25:32Z</dcterms:modified>
  <cp:revision>2</cp:revision>
  <dc:subject/>
  <dc:title>Matching Recurring Patients with Preferred Nurses</dc:title>
</cp:coreProperties>
</file>